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F4B-89C4-47A9-9B69-B60BEBB5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B69-1FB3-4CBC-9E3C-A7552464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3C1-2853-49AD-8844-F4D2F766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8FF-16F9-4D06-AEA0-0D1E771B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C1D-4834-4B50-BDA9-18164BE1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A66-5BB3-4B33-95B7-007F5D3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1C1-908F-4C91-863F-599FC12A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9A0-7D9E-4B73-A213-30DCDD3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752-D89E-460F-B9F0-FF51073E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733-6539-47DD-ADC1-F4AC48F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988-07F1-4512-BA89-7B9A1A8C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A5D-8147-4E91-A204-3BDF8569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39EF-66D7-44A4-9935-DAF8DA573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920" y="1639800"/>
            <a:ext cx="66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--- like simpl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leveraged credit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banking system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markets --- like 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840" y="1639800"/>
            <a:ext cx="598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the future for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gence with OTC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OTC instruments are beco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ditised --- i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ateralised --- ie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mated --- ie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like currency fu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1639800"/>
            <a:ext cx="69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960" y="1639800"/>
            <a:ext cx="88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8% of global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1.2% of global forward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5% of all futures contracts out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urrency futures contracts have been deli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futures exchanges have delisted all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42960" y="446040"/>
          <a:ext cx="760716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46040"/>
                    <a:ext cx="760716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7960" y="1549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82880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1752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 &amp;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2760" y="3886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41911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1639800"/>
            <a:ext cx="81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 ---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important for CME &amp; B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atin America, currency futures = 11% of all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6398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global in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ocal 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880" y="1639800"/>
            <a:ext cx="89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are forward FX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types of forward FX contra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--- used for currency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--- used for interest rate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risk management is mo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= outright fo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= USD 131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= USD 656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ole for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60" y="1639800"/>
            <a:ext cx="861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ve contract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Rolling Spot contracts (exchange-traded FX sw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ontracts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s to increase deal size to OTC level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order facilit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for physical facili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market-mak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280" y="1639800"/>
            <a:ext cx="764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ation --- inflexible bu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settlement --- inconvenient but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-trading --- transparent but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2:10:34Z</dcterms:created>
  <dc:creator>Richard Comotto</dc:creator>
  <dc:description/>
  <dc:language>en-US</dc:language>
  <cp:lastModifiedBy>GÜNHAN GÜNEÇ</cp:lastModifiedBy>
  <dcterms:modified xsi:type="dcterms:W3CDTF">2001-11-19T08:03:53Z</dcterms:modified>
  <cp:revision>7</cp:revision>
  <dc:subject/>
  <dc:title>The role of currency futures in global financial markets</dc:title>
</cp:coreProperties>
</file>